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89254-429D-4D76-89AC-F52A8B2EA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094FB-7615-4BCA-9890-D492580D370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568080" y="4560480"/>
            <a:ext cx="536580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Time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G Time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6C5-4EC6-43D7-8468-E3A66275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5E2-4407-4B40-A8EC-55566954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AF9-9023-45D2-A293-E045A968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DE7-7E9A-4500-B2C7-9CC15210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23BA-D6F4-4733-9DAB-C0D3E930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0FFE-A42A-4775-948F-2726CFA3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87E2-A3A1-45B4-911F-9C05E08F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78EC-FF9D-4C00-9C3C-7757466E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A1E1-FDE4-465F-A514-59F640ED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910C-702A-468B-9381-B12F953C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CC10-7B4B-4CAC-AE46-EA12F805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5BFD-2CAD-4647-A9CB-5C1CB256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05B3-A5CC-4BCD-8772-06DE8A5B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DBDE-482A-45D5-8F2C-4F557187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BB23-7034-4C72-894F-80A74526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CC0A-637D-4C78-B1A9-48CC1620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84A3-5506-4316-8855-DED6FBAE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2E5-D742-4DA3-83C1-78EE69F9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703-BA73-43C2-AE21-E3F3C07E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0CB-DDD7-4063-A15A-618238DA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134-3FE6-43F3-8559-2AE6932E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E9B-40BA-4887-8F49-BFF1B00D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B55-4751-48D4-81ED-952FCACB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724-2A0C-419B-B645-277D3A76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666E-ACF5-4CB3-9186-021B14791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D91C-2D5F-4FE5-9DB4-585D7E180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188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ffective Writing Basic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ips that can improve your writing in any mediu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While the new ST7000 provides extensive memory and is extremely user compatible, it lacks the requisite capacity for calculating at a high rate of speed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Times New Roman"/>
              </a:rPr>
              <a:t>Our computer system is easy to use and has enough memory, but it is too slow.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Demand-side capacity combined with transmission wheeling contracts and local generation resources will be able to meet local demand and spinning reserve requirements for the next five year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SMUD will be able to save and produce enough power to meet local needs for the next five year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4: Write with verbs and nou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the active voi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en it is okay to use passive voi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6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The company (S) sells (V)  insurance (O)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Univers"/>
                <a:ea typeface="Courier New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:  Insurance is sold by the compan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The construction crew repaired the road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Univers"/>
                <a:ea typeface="Courier New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:  The road was repaired by the construction compan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Tests showed the new material did not wear well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Univers"/>
                <a:ea typeface="Courier New"/>
              </a:rPr>
              <a:t>Not: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  When tests were run, it was discovered that good wear is not exhibited by the new material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7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  <a:ea typeface="Courier New"/>
              </a:rPr>
              <a:t>Choose the right verb and the right nou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Mr. Johnson ran quickly across the four-lane street, almost falling down when he stepped in a large hole in the concrete. (22 words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Mr. Johnson sprinted across the boulevard, stumbling when he stepped in a pothole. (13 words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5:  Format document to improve readabilit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lists, bullets, charts, tables, indents, italics, bolds, headings and subheading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100-word rul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efore you begi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o is the audience (“My audience is _________.”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urpose of the message (“My purpose is________.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ow will the reader use the information (“So that the reader will________.”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s you begi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emble all useful inform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termine what’s importa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oose what to leave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ou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up information logicall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 ways to organiz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vis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are/contras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ause/eff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blem-analysis solu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ivision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rt with main idea, then discuss the par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CME Corporation faces four problems that threaten its competitiveness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utdated marketing pla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or service recor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gh pric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ow Mora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ut the reader firs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simple words and short senten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jargon only when necessar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rite with verbs and nou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rmat to improve readabilit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ompare/Contras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familiar to explain unfamili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ut the conclusion up fro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f we expand in the West we will face the same challenges as we did in expanding to the South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ck of ident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or distribu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hort p-term cash flow proble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ntrained labor fo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roblem-Analysis-Solution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d a straightforward way to offer recommend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shipping dock’s inability to ship product fast enough results from a inefficient tracking system.  The solution is to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vest in a new computer syste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rain staff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form customers of realistic shipping tim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udget for overtime to meet peak dema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ause/Effec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esents a clear-way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-B; A-B-C-D; ABCD-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organizing the marketing department will cause two benefits and one problem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mproved account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etter communic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blem – poorer service to industrial custome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velop an outl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rite the easiest part firs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velop major sections one at a tim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troduction for main ide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in point in first paragrap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urn off your internal edito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0% of writing is re-writing and edit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et the document coo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un a Fog te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im to cut first draft by at least 10%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1:  Put the reader fir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munication = understand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rite to EXpress not Impr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words readers can pictu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ie in to the reader’s experi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IIFM – What’s in it for m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2: Use simple words and short sentenc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Per our conversation, I am enclosing herewith a remittance of $25 for the balance due on my account. (18 word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As we discussed, here is the $25 remaining on my account. (11 word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Here is the $25 remaining on my account. (8 word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As pertaining to the question of whether or not to construct a new storage facility, corporate management will ascertain the appropriateness of such an issue in the near futur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Management will decide next week whether to build a new storage facility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ip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ourier New"/>
              </a:rPr>
              <a:t>Avoid wordy prepositional phras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In the amount of (for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In order to (to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Due to the fact that (becaus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In the event that (if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During the time that (when, whil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3:  Use jargon only when necessar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is jargon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3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The new FMIS system from Global provides VOR/DME nav redundancy, as well as enhanced GPS capability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Global's new flight management system provides several ways to navigate your airplane, including the latest in satellite navigation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20:53:53Z</dcterms:created>
  <dc:creator>Scott Mackey</dc:creator>
  <dc:description/>
  <dc:language>en-US</dc:language>
  <cp:lastModifiedBy>win-7</cp:lastModifiedBy>
  <cp:lastPrinted>2009-04-22T19:24:48Z</cp:lastPrinted>
  <dcterms:modified xsi:type="dcterms:W3CDTF">2014-09-02T19:17:33Z</dcterms:modified>
  <cp:revision>16</cp:revision>
  <dc:subject/>
  <dc:title>Six keys to effective writing</dc:title>
</cp:coreProperties>
</file>